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5th%20Grader%20Short.wav" ContentType="audio/x-wav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57046-317D-4A5A-995C-6DB9A2D7B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80CBB-2081-4B8D-96F7-16AC7F54DB0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B0DE0-CE06-4A54-922C-5593EF4714E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AF00B-6557-416F-A1FF-7528A209FB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4B80D-D6D3-4159-AECF-C045C1426A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2F131-47D5-452B-99E3-7F481A6CA3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23C4C-4A72-46D6-9EE1-93869047A3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B52B-7AC0-4458-BB89-E93F53DA4F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BF6CC-9BFC-456F-81D6-D1AC134A87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EBC01-FF7B-428F-BAEF-A89441CF38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BF5FF-1232-4175-B7C8-80621BD959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B892F-C622-4FD1-A694-126E9BDE9CE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770C8-46FA-48AB-B10D-7854185C1D9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B1CC0-6A0F-411F-874D-C19D140FBC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4B23-A685-42C4-9A41-69280FDD7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439F-91C1-4CD9-9E34-09D657875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B931-3E6F-48FB-8BEC-5D6C2337B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E2C4-0D84-4287-9467-BFC87A326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7DF6-F5C9-47B6-9365-853ED485B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225D-395B-4971-A65F-153EFC0E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8E8E-EE93-4152-9859-C5C067BAA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6033-60D9-4054-889F-E2896C75C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1B23-A091-4234-B032-CAACA240C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BB88-4E2D-4944-8FBC-321586E3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76A0-4230-42C9-AE78-4C031280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D499-E06E-4E4A-B533-2630027D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66000"/>
          </a:bodyPr>
          <a:p>
            <a:pPr marL="226080" indent="-226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490320" indent="-1886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754200" indent="-15084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055880" indent="-15084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357560" indent="-15084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357560" indent="-15084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357560" indent="-15084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9BF28-0729-4563-93A9-097D2849D04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5th%20Grader%20Short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audio" Target="../media/5th%20Grader%20Short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re You Smarter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an a Core Student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2971800" y="3733920"/>
            <a:ext cx="3048120" cy="1904760"/>
          </a:xfrm>
          <a:prstGeom prst="rect">
            <a:avLst/>
          </a:prstGeom>
          <a:solidFill>
            <a:srgbClr val="ffffff"/>
          </a:solidFill>
          <a:ln w="1522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6" descr="core student.JPG"/>
          <p:cNvPicPr/>
          <p:nvPr/>
        </p:nvPicPr>
        <p:blipFill>
          <a:blip r:embed="rId2"/>
          <a:stretch/>
        </p:blipFill>
        <p:spPr>
          <a:xfrm>
            <a:off x="3505320" y="3886200"/>
            <a:ext cx="198108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rt History Question 9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rite Question Her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rt History Question 10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rite Question Her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,000,000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rite Question Her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I Hope You Learned Something!!!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2895480" y="3733920"/>
            <a:ext cx="3048120" cy="1904760"/>
          </a:xfrm>
          <a:prstGeom prst="rect">
            <a:avLst/>
          </a:prstGeom>
          <a:solidFill>
            <a:srgbClr val="ffffff"/>
          </a:solidFill>
          <a:ln w="1522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6" descr="basinger in togas.JPG"/>
          <p:cNvPicPr/>
          <p:nvPr/>
        </p:nvPicPr>
        <p:blipFill>
          <a:blip r:embed="rId2"/>
          <a:stretch/>
        </p:blipFill>
        <p:spPr>
          <a:xfrm>
            <a:off x="3429000" y="3886200"/>
            <a:ext cx="190512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rt History Question 1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rite Question Her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rt History Question 2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rite Question Her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rt History Question 3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rite Question Her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rt History Question 4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rite Question Her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rt History Question 5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rite Question Her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rt History Question 6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rite Question Her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rt History Question 7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rite Question Her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rt History Question 8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rite Question Her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0T20:28:24Z</dcterms:created>
  <dc:creator>Gary Bodenschatz</dc:creator>
  <dc:description/>
  <dc:language>en-US</dc:language>
  <cp:lastModifiedBy>LAUSD User</cp:lastModifiedBy>
  <dcterms:modified xsi:type="dcterms:W3CDTF">2010-06-29T21:54:54Z</dcterms:modified>
  <cp:revision>22</cp:revision>
  <dc:subject/>
  <dc:title>Are You Smarter  Than a 5th Grader?</dc:title>
</cp:coreProperties>
</file>