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5th%20Grader%20Short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3F49-7F9A-454B-959A-E38D0BFD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A91E-7E15-46FA-BAD9-33750D18B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DC89-EC63-4B4B-A375-C68EC6107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B3E5-E30A-4EE3-B0C3-CF6211E76A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60A-425A-4E43-98F2-4ACD524B7C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11FB-AE21-4E72-B5E1-21A0C0923F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790E-056F-4D26-97EE-AB4C6F5560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AB3F-C20C-4E38-9428-0B17CE8F55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E3E1-2D41-4A92-A446-91651E1691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CAF0-66DD-4FA8-BC1D-7060142AC7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407B-C692-430F-9A77-DB0C1E9D74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267F-BED4-42A1-82AC-3C183711EC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BCC9-519E-4DBB-9FD3-A8E03E781B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8E8F-BB7E-4D54-8514-D27E9862C5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9A1-7B9A-4A24-AEC7-ECF2750C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356-CEC0-49C6-835C-4E8678BF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7BD-CF92-4DF6-856D-558B2799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546-B8D5-4814-9029-9E76602C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B31-AA24-4554-9D00-083F605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D39-47F0-4B42-8FC8-39DA9231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AAD-1793-4158-93DA-0BEAF19E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A59-7F7A-4C5C-92CF-624F5815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048-8A54-41E8-AE3A-46DAFDC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A01-3CC4-4C9E-8860-D6D09692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52C-A8E6-449D-BEE2-E8BC4CF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9A8-0216-4762-BD2D-FA5DD125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FDAA-3E8E-48CE-9B5F-F153C79037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Core Studen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core student.JPG"/>
          <p:cNvPicPr/>
          <p:nvPr/>
        </p:nvPicPr>
        <p:blipFill>
          <a:blip r:embed="rId2"/>
          <a:stretch/>
        </p:blipFill>
        <p:spPr>
          <a:xfrm>
            <a:off x="3505320" y="38862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9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10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 Hope You Learned Something!!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89548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basinger in togas.JPG"/>
          <p:cNvPicPr/>
          <p:nvPr/>
        </p:nvPicPr>
        <p:blipFill>
          <a:blip r:embed="rId2"/>
          <a:stretch/>
        </p:blipFill>
        <p:spPr>
          <a:xfrm>
            <a:off x="3429000" y="38862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4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5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6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7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8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AUSD User</cp:lastModifiedBy>
  <dcterms:modified xsi:type="dcterms:W3CDTF">2010-06-29T21:54:54Z</dcterms:modified>
  <cp:revision>22</cp:revision>
  <dc:subject/>
  <dc:title>Are You Smarter  Than a 5th Grader?</dc:title>
</cp:coreProperties>
</file>