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5th%20Grader%20Short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933-15F0-4449-B3C9-8F98B525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2EC0-7BC4-4E88-B09A-3F8DD71A5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E3CF-08E5-402C-AE93-B30269AAC4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856F-A3A0-46F5-8F25-1A8C20E21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06AF-0B60-4D6C-B6B5-76E3FF00F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0089-7205-433E-A805-1324B4B608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AF76-C0AF-4639-B832-6F3DA891B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7506-AB5A-4F5E-84EE-E27E9244A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CF65-37C2-4F2C-A46B-FF02480137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739-08C3-49D4-A549-2C4630CBAE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40F7-5648-4E1A-AF34-7D7F182AF5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F407-D3DC-47EE-A996-E10EA10F6D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BB4A-7B46-4FBE-9B19-098D5684B6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DBFF-332E-4DBA-9F1E-17A672FDD8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A22-57AB-4DC5-AF42-023D97B4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AEE-F88A-4244-B65F-CDD09AF0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E22-7518-4281-9B6E-BC9894C2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8BE-D31C-4B81-B7A1-C3501A31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155-4B98-4644-830E-EBD81D6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3E0-2DA3-4A39-BFDC-3F5180C0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E68-B3FA-4957-87CD-2F352488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0D2-6FF8-4F1F-8E07-CFFC128C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602-AE8E-40EE-BA2C-6858FCA0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64A-ABD7-4567-B509-F990327A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C1E-3F91-4F53-A0F0-28B92C5F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20D-E65F-4808-87F6-BBF247D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5174-B65B-4626-B3C1-77335B62C3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Core Studen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core student.JPG"/>
          <p:cNvPicPr/>
          <p:nvPr/>
        </p:nvPicPr>
        <p:blipFill>
          <a:blip r:embed="rId2"/>
          <a:stretch/>
        </p:blipFill>
        <p:spPr>
          <a:xfrm>
            <a:off x="3505320" y="38862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10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 Hope You Learned Something!!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89548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basinger in togas.JPG"/>
          <p:cNvPicPr/>
          <p:nvPr/>
        </p:nvPicPr>
        <p:blipFill>
          <a:blip r:embed="rId2"/>
          <a:stretch/>
        </p:blipFill>
        <p:spPr>
          <a:xfrm>
            <a:off x="3429000" y="38862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4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5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6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7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8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AUSD User</cp:lastModifiedBy>
  <dcterms:modified xsi:type="dcterms:W3CDTF">2010-06-29T21:54:54Z</dcterms:modified>
  <cp:revision>22</cp:revision>
  <dc:subject/>
  <dc:title>Are You Smarter  Than a 5th Grader?</dc:title>
</cp:coreProperties>
</file>