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5th%20Grader%20Short.wav" ContentType="audio/x-wav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84A1-7AB1-4A66-A5C7-C48C78256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7F0D-5276-44F4-826C-EDE35EA40B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AA9E-168A-4634-979B-28DA0A595B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451B-5992-446E-8A49-77596140A5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0A79-75B6-4A1F-A4E3-21638C8123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8AB9-34BF-45CB-9545-869D1220DB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AE27-7649-4DBD-A16B-AA9D9C3D57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1745-472B-482A-A3ED-B24D78A49E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86B6-5DF5-4D95-BC26-69D532255B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479A-606E-405C-9E74-F6B289FD16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7D47-9E8F-42BD-94C1-1568FA640E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7D78-84E9-44D7-B901-4B9421B561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F8E4-8CAF-4558-B24C-D1739E79F6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1599-8F00-411D-B637-77A656B3BD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062-025D-42A4-8CE8-1E706F34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771-A18F-4A9B-95B5-0EBA98B1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95C-A4CF-4BB6-8779-0C3C4D85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2AC-F2DA-419F-8002-CD38F8A1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674B-8A22-4D67-8E88-7BD65788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06A-2FD5-49FA-ACE0-06FAB2D7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7C7A-6F6A-4218-99EE-0A9215C0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3782-7967-4949-B597-28C665E5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A25-C7F6-4C3B-9830-E161D9DB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C4E3-08DD-467B-A1E2-744B83E9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7A4C-63B8-4FC7-BB5C-B0EF9C38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F91-8718-4B69-9C23-9D68F46F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1A8A-37E4-466F-BC82-0B88A85C10D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Core Student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6" descr="core student.JPG"/>
          <p:cNvPicPr/>
          <p:nvPr/>
        </p:nvPicPr>
        <p:blipFill>
          <a:blip r:embed="rId2"/>
          <a:stretch/>
        </p:blipFill>
        <p:spPr>
          <a:xfrm>
            <a:off x="3505320" y="3886200"/>
            <a:ext cx="19810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9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10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 Hope You Learned Something!!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289548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basinger in togas.JPG"/>
          <p:cNvPicPr/>
          <p:nvPr/>
        </p:nvPicPr>
        <p:blipFill>
          <a:blip r:embed="rId2"/>
          <a:stretch/>
        </p:blipFill>
        <p:spPr>
          <a:xfrm>
            <a:off x="3429000" y="388620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3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4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5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6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7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t History Question 8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rite Question He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LAUSD User</cp:lastModifiedBy>
  <dcterms:modified xsi:type="dcterms:W3CDTF">2010-06-29T21:54:54Z</dcterms:modified>
  <cp:revision>22</cp:revision>
  <dc:subject/>
  <dc:title>Are You Smarter  Than a 5th Grader?</dc:title>
</cp:coreProperties>
</file>