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5th%20Grader%20Shor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4893-7693-4F96-8F79-ABF738D4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B68-B5F5-4A8D-8F4D-D75B4C0F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06A-B6F9-4D2F-A110-25796669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F21-C4F6-4773-95E7-A8C874B07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B252-E85D-4131-8450-D9ADCC94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29E0-2A80-43C2-9D38-62F60BFC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BFD-C179-4D71-A9C9-F34A5384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221-D74C-4AC2-A7B1-33E52C9E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E9D-3A1D-4A5F-8C51-A7EBC181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FD7F-AD4E-4CCC-AE6C-59AF0D4A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D305-BE43-4BAF-A9DF-B39E48F1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B15F-703A-49AB-97DD-F62F6083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CBD3-0E94-4857-9AA0-0782FA78A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2CA-0FEF-4854-8410-DA0F6F60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EDE-7342-49A5-B248-C1DDC799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AB1-1044-4541-8AB2-F3843274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937-04DD-48F1-8948-88C1159E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B76-2D69-4378-A399-DFBC3213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BF4-5C94-4400-A369-6ADCAD7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91E-DE84-4205-9A85-A5E8F8DE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B8C-BAE1-4887-923B-738484F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13F-0DE8-48B7-92C8-AE0130E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44B-ED7D-42A0-A954-03A4519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105-5A19-4B42-9F6D-AC86302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F4A-6471-4446-B12B-4099105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0512-7584-4F12-AD80-0F9ECD1917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000,0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did not pass, you have to face these guys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000000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arriors.JPG"/>
          <p:cNvPicPr/>
          <p:nvPr/>
        </p:nvPicPr>
        <p:blipFill>
          <a:blip r:embed="rId1"/>
          <a:stretch/>
        </p:blipFill>
        <p:spPr>
          <a:xfrm>
            <a:off x="2971800" y="3809880"/>
            <a:ext cx="2895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55:04Z</dcterms:created>
  <dc:creator>Gary Bodenschatz</dc:creator>
  <dc:description/>
  <dc:language>en-US</dc:language>
  <cp:lastModifiedBy>LAUSD User</cp:lastModifiedBy>
  <cp:lastPrinted>2010-06-29T22:10:17Z</cp:lastPrinted>
  <dcterms:modified xsi:type="dcterms:W3CDTF">2010-06-29T22:11:41Z</dcterms:modified>
  <cp:revision>24</cp:revision>
  <dc:subject/>
  <dc:title>Are You Smarter  Than a 5th Grader?</dc:title>
</cp:coreProperties>
</file>