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5th%20Grader%20Short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8E0A-A41E-4DE8-BCD5-3D942449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87A-2F54-4A1B-A534-570A5105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1811-958E-489F-91C5-32599174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51E7-9222-4478-B644-210D2258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24E8-1818-4D9F-982C-1AFC4187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E117-2966-4EA7-9A68-FBE8F1B75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7AD7-53AC-4E3C-954C-98B1158AC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C7B4-013D-45D3-AB75-8429631B4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5E49-B6B8-4C38-BA18-39C41CA67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B1BF-782A-46AA-A8AC-26A00D46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4F7-851D-44A8-85DA-6EFB2F4D5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D836-175D-4203-BA41-4FFBD01B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BBF0-EF9F-4223-B296-657B86D09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F91-EC5E-4BB4-AB2D-69C026C8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5C8-21E2-494A-A4CF-0A004723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F0A-C784-4ED3-8D8C-588D883A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FE6-13FE-40AE-953D-4F2337F9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A54-8D88-4020-977F-B63B83D8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60F-6640-4E79-8B5E-B3181426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D03-3FE9-4363-A6C6-8013FE93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056-56AD-43DF-A91E-CA0D118F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9F6-383B-441C-8BFB-A92E794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FDF-2AA5-4F89-8AE6-A12A5488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742-C775-4540-89F2-CE833F61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DA3-431B-4372-99D7-C92A2AB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78FA-DF40-4AE2-B01E-EC7FD8D307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000,000 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you did not pass, you have to face these guys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895480" y="3733920"/>
            <a:ext cx="3048120" cy="1904760"/>
          </a:xfrm>
          <a:prstGeom prst="rect">
            <a:avLst/>
          </a:prstGeom>
          <a:solidFill>
            <a:srgbClr val="000000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warriors.JPG"/>
          <p:cNvPicPr/>
          <p:nvPr/>
        </p:nvPicPr>
        <p:blipFill>
          <a:blip r:embed="rId1"/>
          <a:stretch/>
        </p:blipFill>
        <p:spPr>
          <a:xfrm>
            <a:off x="2971800" y="3809880"/>
            <a:ext cx="28954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1:55:04Z</dcterms:created>
  <dc:creator>Gary Bodenschatz</dc:creator>
  <dc:description/>
  <dc:language>en-US</dc:language>
  <cp:lastModifiedBy>LAUSD User</cp:lastModifiedBy>
  <cp:lastPrinted>2010-06-29T22:10:17Z</cp:lastPrinted>
  <dcterms:modified xsi:type="dcterms:W3CDTF">2010-06-29T22:11:41Z</dcterms:modified>
  <cp:revision>24</cp:revision>
  <dc:subject/>
  <dc:title>Are You Smarter  Than a 5th Grader?</dc:title>
</cp:coreProperties>
</file>