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5th%20Grader%20Short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2308-0BB7-472C-8FD2-105FC6AFF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DB50-B192-4D34-9DDF-62BC6C70A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D6A9-EF2E-41AF-867A-C3C6E214E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2D9E-4301-4C25-B64D-393C0FEA1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B635-B38F-4682-B643-29C24A8D2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ECCC-29C1-4BB0-AB3C-B67483116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A630-457E-482D-BE71-80FE818A4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1031-4F1E-4C4E-A26D-B45D43311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0363-0900-4D37-8E98-0AB10F843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19F7-5C07-43B2-A4F2-2B3F88C8E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FB4E-8A2A-4283-B712-C5CB52A03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D712-7555-46F2-88E1-004267BC8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517D-AAE1-49D8-A4ED-40149DF06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094-FEFF-43C8-9BE7-EAA6921F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049-8DF3-47A1-A0FC-8CAFADF2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6C4-C2B8-4B3B-BDC6-C5A3030A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935-6C16-463B-92C0-22C1E1F3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EEA-2250-4A52-AB8A-E709E1B0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9F6A-5DE8-4BB0-AD94-CDD409CC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954-D0D5-4E3A-9BF4-FDA7C2EC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304-F2D9-44C9-8F04-1C71026E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742-A276-4687-839B-9D69DE06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A32-3360-4911-A38A-FB40F601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83C7-B0F1-420D-84AB-BC13AEF8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1018-C456-4C9D-B871-3FD2898F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C94C-1DC5-4FF7-8809-DF997D296F0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5th%20Grader%20Shor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,000,000 Ans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you did not pass, you have to face these guys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895480" y="3733920"/>
            <a:ext cx="3048120" cy="1904760"/>
          </a:xfrm>
          <a:prstGeom prst="rect">
            <a:avLst/>
          </a:prstGeom>
          <a:solidFill>
            <a:srgbClr val="000000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warriors.JPG"/>
          <p:cNvPicPr/>
          <p:nvPr/>
        </p:nvPicPr>
        <p:blipFill>
          <a:blip r:embed="rId1"/>
          <a:stretch/>
        </p:blipFill>
        <p:spPr>
          <a:xfrm>
            <a:off x="2971800" y="3809880"/>
            <a:ext cx="289548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21:55:04Z</dcterms:created>
  <dc:creator>Gary Bodenschatz</dc:creator>
  <dc:description/>
  <dc:language>en-US</dc:language>
  <cp:lastModifiedBy>LAUSD User</cp:lastModifiedBy>
  <cp:lastPrinted>2010-06-29T22:10:17Z</cp:lastPrinted>
  <dcterms:modified xsi:type="dcterms:W3CDTF">2010-06-29T22:11:41Z</dcterms:modified>
  <cp:revision>24</cp:revision>
  <dc:subject/>
  <dc:title>Are You Smarter  Than a 5th Grader?</dc:title>
</cp:coreProperties>
</file>