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5th%20Grader%20Short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F24-3CC2-493F-B329-A9337F158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66C6-6A5F-4D1E-ADDD-2CFBCA267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251-44D3-44A8-9C49-C8FB95BF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578F-79E2-4518-B4C5-C5448872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655-9481-42D4-9677-6F7E971E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BA53-AC1A-4F09-83FC-B2D95147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A417-2925-464D-B525-E8CED7C7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F718-687A-4780-85AB-49E74BA1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C96-132D-4C9F-B61D-B8D636AE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6E7-9F21-4B57-8A9D-FFE6EABC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997-EAE7-429B-8DC8-F9A35659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A483-B5CB-4A85-A320-DE521C1D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7BE9-41DE-4ED5-B00C-830CC83C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452-0D37-4E28-88EC-042976C8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0A4-5683-431D-96A8-EE5A59A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844-BF66-4537-BC18-1546BF49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869-CA39-4883-B314-35E29E9E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1D-7EB9-48F7-B69E-E2CB9415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5D6-D87B-4C43-BB00-FAF1918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15E-3AAC-47ED-B7F8-218FF814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BDD-579F-44B2-B6F2-363B57DC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531-B214-4C8B-867A-970FB6B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30C-C0B1-4E0C-953B-7579FEA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197-F177-4B8B-B86F-22692B8B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9CF-A557-45C2-AE04-D96A295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A06-4FEC-4760-A4A5-1215CEF732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000,0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you did not pass, you have to face these guys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000000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warriors.JPG"/>
          <p:cNvPicPr/>
          <p:nvPr/>
        </p:nvPicPr>
        <p:blipFill>
          <a:blip r:embed="rId1"/>
          <a:stretch/>
        </p:blipFill>
        <p:spPr>
          <a:xfrm>
            <a:off x="2971800" y="3809880"/>
            <a:ext cx="28954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History Answ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1:55:04Z</dcterms:created>
  <dc:creator>Gary Bodenschatz</dc:creator>
  <dc:description/>
  <dc:language>en-US</dc:language>
  <cp:lastModifiedBy>LAUSD User</cp:lastModifiedBy>
  <cp:lastPrinted>2010-06-29T22:10:17Z</cp:lastPrinted>
  <dcterms:modified xsi:type="dcterms:W3CDTF">2010-06-29T22:11:41Z</dcterms:modified>
  <cp:revision>24</cp:revision>
  <dc:subject/>
  <dc:title>Are You Smarter  Than a 5th Grader?</dc:title>
</cp:coreProperties>
</file>